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9C56-8F58-4C97-8EE7-790ED0932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DDC7-0385-4E40-92AB-65584CE6F4F1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BA098-E03E-456D-ADBA-95FC2406E2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53A32-1656-42ED-B7E6-D0C6A9DEFA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572FC-B7EB-44D9-B89F-AB4A765C9E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91D9F-56A7-406A-897F-A4BA308029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D448D-379A-4869-BE03-14FAEBF450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439F4-9A9F-41AA-9FB9-661E30D217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BDA61-780D-4418-961A-BAC1F3C848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8C1BD-19DF-4108-BC38-B289B27DB5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86670-3589-4CD2-BE18-36D4E9B4A2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29A07-8829-4BA4-98A8-199B1271EA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2B766-C312-4D43-A09F-DAC38FC78C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2474A-FBE0-4155-9C53-118CD6AEC2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D0047-7C99-49B6-86CF-411ABEE309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8F7FF-0015-4A09-9951-D17086D3F5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99AA8-A6D5-48E2-8491-F7635A3E27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BB2A85-1D96-42B8-BF3F-B8F53963AB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21A56-EA23-4D91-B842-D51BF064D7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B3C43-54EF-47C7-A437-F0923EE6F9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B131D-C564-4A63-82E7-3A35024E7C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2D087-E7D9-4BD4-AD01-2A9C7FA88B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DBF31-DB86-4EEB-80DB-8FEECBDBE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E4E47-B36F-4D77-978E-C121673ADE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6677D-D077-486E-B0DB-70D53EC701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AE6A0-DB52-419F-9D9C-DE4537A0FB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8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7A9A92B4-7033-41EE-9262-2026CB5AB70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0B3A328A-648D-41AF-BA04-056D76D0A40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B7DAB240-F7D3-42D9-8693-CECFAFEC778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2600" y="2590560"/>
            <a:ext cx="335412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as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801720" y="457200"/>
            <a:ext cx="7542360" cy="1752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99920" y="5331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al Fundamenta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Canadian Business </a:t>
            </a:r>
            <a:br>
              <a:rPr sz="40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3716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508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5843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5080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98" name="Picture 11" descr="yates_LegalFund_CRV.jpg"/>
          <p:cNvPicPr/>
          <p:nvPr/>
        </p:nvPicPr>
        <p:blipFill>
          <a:blip r:embed="rId1"/>
          <a:stretch/>
        </p:blipFill>
        <p:spPr>
          <a:xfrm>
            <a:off x="5029200" y="2362320"/>
            <a:ext cx="28954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7B85F07B-4234-46B6-9ED4-D5FED206F23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ceptions to use of copyrighted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e of small portions for research or private study permi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reproduce for review, criticism, rep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ducational institutions (and some others) have rights for research or educational purp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production to facilitate someone who is blind or de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4FC47617-D2C9-4648-825A-173E825E33C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cess Copyr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n-profit body that collects fees for use and distributes them to auth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ame function for musicians and composers of recorded mu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pyright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ets royalty fees and may arbitrate disp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D4D9C509-68A2-4BA8-9BD9-956419BF6A1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adian intellectual property law under at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oes not provide appropriate protection for artists, authors, and produc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oes not impose restrictions on uploading and downloading of music, video, etc. from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pected that Canada will change laws very soon due to international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B9F6A418-0B44-42AF-9F38-0FAE804EF61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a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ederal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Patent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gives inventor exclusive rights to produce and profit from invention for 20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overnment regulatory body handles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tent protection requires discl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rawings, plans, and information so another could reproduce in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548A7910-7195-4E3C-AC9B-3C81E416608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at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o register has priority, not first to cre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tect idea, not the wor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o be patentable, invention must be useful, new, and contribute to improving soci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patentable if inv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n obvious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be discovered by reverse enginee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F6622829-E076-4786-8824-A77FC0484AC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at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granted for scientific principle al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igher life forms not patentable in C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 patent modified 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me business patents gra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me computer software can now be pat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7A9F8490-78D3-46B2-A955-97796E6E6B3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at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tented drug prices must be justified, but costs increa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vergreening” extends drug patent another 20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TO permits creation of generic drugs under licence for export to third-world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509E20A6-E562-4ED2-A33D-1DA1738BA28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at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pplying for patents complicated and cos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one through registered patent ag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ce patent obtained here, invention must b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tection may be obtained in other countries with whom we have trea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258519CA-CD34-427D-A225-D8338BA1B48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at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e has right to patent unless inventing was purpose of em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 assign patent to third parties and use as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ederal and provincial courts can hear patent infringement c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DE0AAB57-6923-4ECB-ADD7-B10071026DF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lated 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Industrial Design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tects distinctive designs, shapes, or patterns associated with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register; protection lasts 10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Integrated Circuit Topography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tects unique design of integrated circ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register; protection lasts 10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419EB2E5-6B54-43F1-8BA1-AE302C6DCFA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inguish between intellectual property and other kinds of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and describe what is protected under copyright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ize recent proposals to change copyright law impacting digital recor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what a patent protects and how patent protection is obt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FCD3DDB5-78AC-41A0-9B7E-9D0D34A1494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adema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ames, symbols, logos, or other distinctive marks associated with a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oodwill often associated with these ma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ederal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Trade-marks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allows for registration and pro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ives exclusive rights of use in Canada for 15 years and is renew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5FD741BD-414B-4393-85FE-2BB5DF65738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ademark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use marks or will lose pro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ll provide proof of ownership for registration in other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fringement involves using the mark to confuse the public or devalue the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seek remedy in either federal or provincial cou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113A8ED6-9B68-4CF7-AFCC-DBC14F00877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ademark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 consist of words, expressions, trade names, symbols, logos, desig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des certification ma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des “official marks” used by organizations associated with gover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des distinguishing gu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stinctive shape of product or contain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53097151-6B01-47EE-A824-58078AC8452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ademark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 apply to protect proposed tradem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gistration usually done by trademark ag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strictions set out in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such as royalty, national flag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be socially accep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sually surname of living or recently- deceased person not permit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A6FECBA4-D872-4384-92AB-B62D6E8CEFD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ademark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be distinctive and not confused with mark of another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lost if name or symbol becomes generally used to describe a number of similar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51BFC490-1930-4162-A27E-0717CC02FAF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ademark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isputes handled by Registrar of Trademarks with appeals to Federal Cou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rademarks can be challenged up to five years after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rademarks and associated licences can be assig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879BEE11-9FF4-4DF6-9949-919F5CFED8F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ademark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ssing-o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ven unregistered marks are protected through tort of passing-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not use similar mark to misl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est for passing-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putation of goodwill for product or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rk/name similar enough to cause con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alue of goodwill/reputation inj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9AD518AA-1EDB-47E1-ADE9-DE529BEBEDB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PR Reme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ama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junction to stop offending 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im injunction requires balance of convenience for applic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ton Piller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rder that offending products or records be seized before they can be destroyed/rem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D75B527A-6B56-45E9-A665-9DDD0B6665D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PR Remedi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ton Piller order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rong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prima faci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anger of considerable further da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fending party has documents/products in his/her possession and likely to dispose of/destroy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E0DB0782-D1C0-4DF7-BE73-14B1170AE6B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PR Remedi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cou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termines improper profits made by defendant that must be paid to plain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ment of royalties may be imp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creasing tendency to award punitive da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me infringements are criminal offences under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Copyright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Patent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Criminal Code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vers trademark infrin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0C148D58-6FAA-4C02-A3FE-CC95E21A639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 the protections afforded by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dustrial Design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what is protected by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rade-marks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confidential information and the ways it can be prot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role of privacy acts and describe how they protect a business from disclosure of confidential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03FFBD72-94FE-45B8-83C6-901CF85EA63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ivacy, Security, an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fidential In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idential information and trade secrets need pro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 legislation in place, but common law applies (e.g., fiduciary duty or contra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n-disclosure provisions can be used in contracts (e.g., contractor, consulta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trictive covenants may be used with 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make it clear to employees that information is confid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95469337-6AFB-4924-B76F-CF5038CFBC1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ivacy, Security, and Confidential Information - Remed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medies are damages, injunction, and accou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pursue an action for inducing breach of contract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8A001847-00C8-448C-B648-D26137BB6CC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iva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 common law protection of priv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everal provinces now have statutes making breach of privacy a t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des eavesdropping, surveillance, and unauthorized use of name or portra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ederal and provincial legislation deal with protection of pers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B01DAB3E-C459-4331-B7B6-9C1A8646899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ivac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ederal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Privacy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protects personal information in hands of federal gove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stablished office of Privacy Commissio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Personal Information Protection and Electronic Documents Act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(PIPE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rols collection, use, disclosure, and disposal of personal information in commercial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448DCBAE-CCBB-484E-B2A3-7E70654B44F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ivac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IPEDA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me provinces have adopted similar legis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00"/>
                </a:solidFill>
                <a:latin typeface="Times New Roman"/>
              </a:rPr>
              <a:t>May have to follow legislation at both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mposes obligations for information in connection with business activities and also employe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olations are indictable off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2C4D9B98-9667-4308-8EC4-FB2D3C33870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ivac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usinesses must develop policies and procedures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ke businesses accountable for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lace limits on information collection, use, retention, and discl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nsure accuracy and safeguard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vide access to and provide process for challenging information’s accu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4258F46F-4377-4CD3-B1E6-2F25C2A6D3C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Keeping information secure includes preserving it, protecting it from corruption, and preventing its interception and discl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igital storage makes information subject to easy loss, theft, and de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have back-ups in different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C0C58919-1882-4042-BD3F-AB3174576FC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-mail communication is not secure; may be hacked or misdirected accident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ncryption may be required to protect information but may still not suff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leting information does not eras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reless networks are suscept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271F7473-E440-4C3C-8BE6-7C3A5D4A378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redit and debit card fraud are com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protect PIN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es and machines should be regularly monito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dentity theft is becoming a bigger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rs may be vicariously liable for actions of employ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71FDA2D7-1249-4AB7-B319-0EF50AEA423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nitor employee use of computers and other company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ortant to inform employees of surveillance to avoid violation of r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fidential information should be contained and employees told what information is confiden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532A3B36-F550-4C0F-84D0-42A78FCC6BC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tellectual Proper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tangible personal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aluable business as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ten underdeveloped, undervalued, and poorly protected by busin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ederal legislation deals with all asp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th federal and provincial courts have jurisdiction to hear disp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9007CF94-8417-481E-8A00-24DF2EEF9C1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reful hiring practices are best safegu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trict access to confidential information to only those who requir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vels of password pro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ing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riminal Co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vers specific provisions related to computer and internet off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1FE7A938-45AB-4FCC-A17E-E002D816351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Copyright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protects artistic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ly protects the expression of the id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sts for 50 years after death of the creat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ly 50 years if corporate owner, author unknown or movies, photos, or sound recordings are invol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pyright often assigned to publisher; creator receives royalties from net proc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3ABAA864-DB6A-4588-AEA5-EA0B1B92DAA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reator retains moral rights even if copyright assigned or so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ight to have name associated as cre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ork cannot be modified, distorted, or defaced without creator’s per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r entitled to copyright if work created by employee during course of em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49AB305B-D8AA-4D80-BC65-BB8651D1A94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pplies to every original literary, dramatic, musical and artistic work, including performer’s performance, sound recording, and communication sig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pecifically covers computer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national treaties protect work in other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.g., UCC, Bern Convention, Rome Convention, W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C3D0467D-068B-43E5-91A1-730B51695AE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825560"/>
            <a:ext cx="817704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72098284-1B9A-4253-94B4-CEA9C0DE30E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pyright is automatic in Canada, but registration provides additional benefits (e.g., protection in other countr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ork must be original and fixed in some permanent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1T04:51:19Z</dcterms:created>
  <dc:creator>Client Name</dc:creator>
  <dc:description/>
  <dc:language>en-US</dc:language>
  <cp:lastModifiedBy>User</cp:lastModifiedBy>
  <dcterms:modified xsi:type="dcterms:W3CDTF">2012-04-24T16:50:29Z</dcterms:modified>
  <cp:revision>122</cp:revision>
  <dc:subject/>
  <dc:title>Slide 1</dc:title>
</cp:coreProperties>
</file>